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AA3C5-30BE-464D-9448-10EECDEFA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34796-795F-4A12-A842-A9AE53F2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38F81-670A-4E89-9B67-917AB51BA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4087F-B697-441C-8FD9-FAEC0BF6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4EF1-7F36-4A1C-A595-38CA8720A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347A-14DD-4C5E-8FFA-1BBC93B1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C6F6-F412-4106-81AD-DD73B521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DD05-AAF0-4CFD-B350-551ED39B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8FB8-D603-4F11-956A-2A398194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F259-78B6-4045-B053-A3DC86A3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3E67-4B87-4C33-A0A4-C3F4800B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AE083-B804-484B-A571-9C09B4D8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65F3-3CFC-413A-96E8-8F1596F9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45CD-1275-4E04-9859-D47955CC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4740-876B-4BCD-AF57-294711F9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FFD3-D437-4AFF-98B6-77C9863F2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FF7A-0B95-442C-AF08-DD40C6E5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D87A7-DE62-4212-9141-2FA575E3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8FD04-B8A9-4578-AC15-B3B4A69F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E67B3-F64B-4257-8820-1DEFE1A3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70A25-AA8F-41E9-9D76-44703E8A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C48D0-DA21-4ED2-A81C-6308E9D4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C42BF-6C8A-49F8-8424-1B8C95C8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14FAF-C744-4E93-87B3-160243EF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8A88-CDF9-4A69-8A11-E85AD96A03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5A94-CAED-4622-A234-A31555E2A4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5000" spc="-1" strike="noStrike">
                <a:solidFill>
                  <a:srgbClr val="ffffff"/>
                </a:solidFill>
                <a:latin typeface="Arial"/>
              </a:rPr>
              <a:t>L’enquête par entretien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400" spc="-1" strike="noStrike">
                <a:solidFill>
                  <a:srgbClr val="000000"/>
                </a:solidFill>
                <a:latin typeface="Arial"/>
              </a:rPr>
              <a:t>Chapitre IV. Collecte des donné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3. Les modes d’interven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Les stratégies d’éco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Dimension référenti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Dimension mod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Dimension illocu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tratégies d’int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Contra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Consig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Re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Rel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9280" y="1628640"/>
          <a:ext cx="8713440" cy="4525920"/>
        </p:xfrm>
        <a:graphic>
          <a:graphicData uri="http://schemas.openxmlformats.org/drawingml/2006/table">
            <a:tbl>
              <a:tblPr/>
              <a:tblGrid>
                <a:gridCol w="1917360"/>
                <a:gridCol w="2135160"/>
                <a:gridCol w="2286000"/>
                <a:gridCol w="2374920"/>
              </a:tblGrid>
              <a:tr h="1131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s d’ac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B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ité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B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écla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B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rog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B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férenti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ém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ro-référentiel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B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l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pré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ro-mod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Exe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0" i="1" lang="fr-BE" sz="2400" spc="-1" strike="noStrike">
                <a:solidFill>
                  <a:srgbClr val="000000"/>
                </a:solidFill>
                <a:latin typeface="Arial"/>
              </a:rPr>
              <a:t>Je pense que les mères porteuses sont courageuses…mais je pense qu’elles sont inconscientes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cho : « Les mères porteuses sont courageuses » ou « Les mères porteuses sont inconscientes 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Reflet : « Vous pensez que les mères porteuses sont inconscientes 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omplémentation : « Les mères porteuses se créent des problèmes 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Interprétation : « Vous craignez des conséquences néfastes 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I-R : « Dans quel cas sont-elles courageuses?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I-M : « Qu’est-ce que vous en pensez?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Les effets de re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Réitérations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agacement des échos abusi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Mise en doute de la pensée de l’ITWé en cas de reflets abusi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Déclarations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Complémentation : intérêts, infos complémentaires, écoute sensible (analy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Interprétation : danger d’une perception négative (ITWé dépossédé de ses idé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Interrogations 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Perturbent le déroulement de l’interview si trop nombreuses (</a:t>
            </a:r>
            <a:r>
              <a:rPr b="0" lang="fr-B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 interrogatoi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250920" y="1125360"/>
          <a:ext cx="8300880" cy="5494680"/>
        </p:xfrm>
        <a:graphic>
          <a:graphicData uri="http://schemas.openxmlformats.org/drawingml/2006/table">
            <a:tbl>
              <a:tblPr/>
              <a:tblGrid>
                <a:gridCol w="2766960"/>
                <a:gridCol w="2766960"/>
                <a:gridCol w="2766960"/>
              </a:tblGrid>
              <a:tr h="59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TI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NAI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u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struction d’un discours non provoqué ou construit par la question mais prolongement d’une expérience concrète ou imaginaire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ovoquer des réponses. L’opinion  (ou l’attitude) produite par questionnaire implique une réaction des individus à un objet donné du dehors (la question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ien n’est dit du contexte dans lequel les réponses sont formulées. </a:t>
                      </a:r>
                      <a:r>
                        <a:rPr b="0" lang="fr-BE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r>
                        <a:rPr b="0" lang="fr-BE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Faible stabilité des opinion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haque fois qu’on ignore le monde de référence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haque fois qu’on connaît le monde de référence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sult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ait apparaître les processus, les « comment ? ». L’entretien révèle la logique d’une action, son principe de fonctionnement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’intéresse aux relations causales, aux « pourquoi ? ». Le questionnaire renseigne sur les caractéristiques d’une population. Permet d’établir des liens de causalité probable entre ces caractéristiques et les comportements étudié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Echantillon/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élection des individus que l’on désire interroger.(Critère, composition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La taille d’un échantillon dépend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Du thème de l’enquê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De la diversité des attitudes suppos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Du type d’enquê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Du type d’analyse proje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Des moyens dont on dispose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Validation et représentativi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chantillon diversifi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ais pas dispers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Valid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Modes d’accès aux ITW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Directs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+neu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ifficiles à mettre en œuv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fficacité éventuellement limitée par la distance sociale entre ITWer et ITWé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Indirects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Biais (attention à la sélection des informateurs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+ facile (boule de neige) et + effic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Guide d’entret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ntretiens structurés et peu structur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La structuration de l’entretien suppos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La formulation d’une consig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La constitution d’un guide formalisé (fonction/opérateurs/indicateu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La planification des stratégies d’écoute et d’inter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Réalisation des entreti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Attitude générale (1943) : patience, bienveillance, intelligence critique, non autoritaire. Ne pas juger, conseiller, discuter. Aider l’ITWé à parl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GORDEN (1969) : STRATEGIES et TACTIQU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Stratégies : intrigue; scène; distribution des acteu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Tactiques : guide d’entretien, l’adoption d’attitudes particulières, formulation de questions adapté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1. L’environnement matériel et 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La programmation tempor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La scène (lieux et configuration des pla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Distribution des acteurs : caractéristiques physiques et socio-économiques des partenai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Arial"/>
              </a:rPr>
              <a:t>2. Le cadre contractuel de la commun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Représentations et croyances mutuelles des interlocuteurs sur les enjeux et objectifs de l’IT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Définir un « contrat » et préciser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bjectif de l’enquête et de l’ITW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e choix de l’ITWé et la prise de contact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’usage du « magnétophone 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e thème de l’ITW et le rapport d’expertise del’ITWé (familiarité ou extensionalit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2T20:21:04Z</dcterms:created>
  <dc:creator>Pirotte Gauthier</dc:creator>
  <dc:description/>
  <dc:language>en-US</dc:language>
  <cp:lastModifiedBy>Pirotte Gauthier</cp:lastModifiedBy>
  <dcterms:modified xsi:type="dcterms:W3CDTF">2007-03-08T14:44:21Z</dcterms:modified>
  <cp:revision>4</cp:revision>
  <dc:subject/>
  <dc:title>L’enquête par entretiens</dc:title>
</cp:coreProperties>
</file>